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118-97A0-4A52-A1FE-0D369665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459-4A76-4EDA-B767-3F0F77F0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27D-99F7-44B8-AE33-317C62F7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8CA-CB0A-41BA-817B-2E435B96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09B-191F-4A0A-B838-4EA5D1FC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432-9835-4040-BB77-89E26B19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F0C-5462-4AE5-B63F-1B07202E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DEB-5F34-4A50-9614-99B45096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CD9-FDA9-4DA3-ADEE-22EEC67B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C7A-15CF-40D3-B649-099A65F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505-B962-442A-A3A7-5E7647B6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BC6C-40A4-4E46-8B74-B3782C08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D83B-66FC-46E2-B8CA-542BEAB45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3O1: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lat File Vs Relationa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 to the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as “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database management system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(DBMS)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.g. Access, Filemaker, OpenOffice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 to the product created with the software as a “</a:t>
            </a: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databas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.g. student records, music col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F7F-DC22-4AA8-B52D-CB6C089FDB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351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. So, what IS a relational data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4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205000"/>
            <a:ext cx="727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A database with 2 or more related 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t file data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single table and often suffers from inefficient repetition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is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removing this repetition by crafting relationships between 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3D6-4501-4C69-A3AC-09A0C5DF42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158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a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050920" y="476280"/>
          <a:ext cx="6923160" cy="2063880"/>
        </p:xfrm>
        <a:graphic>
          <a:graphicData uri="http://schemas.openxmlformats.org/drawingml/2006/table">
            <a:tbl>
              <a:tblPr/>
              <a:tblGrid>
                <a:gridCol w="1730520"/>
                <a:gridCol w="1731960"/>
                <a:gridCol w="1730520"/>
                <a:gridCol w="173016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ba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ney Lur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3 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ney Lur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3 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ney Lur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3 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 Br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76 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 Br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76 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95280" y="3716280"/>
          <a:ext cx="3462480" cy="2865600"/>
        </p:xfrm>
        <a:graphic>
          <a:graphicData uri="http://schemas.openxmlformats.org/drawingml/2006/table">
            <a:tbl>
              <a:tblPr/>
              <a:tblGrid>
                <a:gridCol w="1730520"/>
                <a:gridCol w="1731960"/>
              </a:tblGrid>
              <a:tr h="389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 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067280" y="4984920"/>
          <a:ext cx="4797360" cy="1584000"/>
        </p:xfrm>
        <a:graphic>
          <a:graphicData uri="http://schemas.openxmlformats.org/drawingml/2006/table">
            <a:tbl>
              <a:tblPr/>
              <a:tblGrid>
                <a:gridCol w="1731960"/>
                <a:gridCol w="1730160"/>
                <a:gridCol w="1335240"/>
              </a:tblGrid>
              <a:tr h="360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S 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ney Lur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3 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 Br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76 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348000" y="3429000"/>
            <a:ext cx="1584360" cy="25923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9740177"/>
                <a:lnTo>
                  <a:pt x="509" y="7523"/>
                </a:lnTo>
                <a:arcTo wR="10800" hR="10800" stAng="-9740177" swAng="974017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64000" y="3429000"/>
            <a:ext cx="338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No unnecessary data re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Department info easily modified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313992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D5D-E4E8-4623-8113-8195FBD26D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chool and Student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data was only in one table, with fields of surname, fname, school, address, phone no, fax no, etc. What would be  the consequence of a school changing its phone numb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RDMS with two tables, one with student info and one with school information will avoid this du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642-BC5E-4CA5-A052-84A25308E2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Relationships, connection between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relations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Airline’s passenger detai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2924280"/>
            <a:ext cx="129564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e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2924280"/>
            <a:ext cx="122364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3213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3357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356000" y="3213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321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26000" y="28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4508640"/>
            <a:ext cx="50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assenger has only one seat and each seat can be assigned to only one passe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9FB-B26F-4BDB-A6D1-73EFDE0E0D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Relationships, connection between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many relations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customer details &amp; job qu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5516640"/>
            <a:ext cx="50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94172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e supplier can provide MANY products, but each product 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NE supp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4562640" cy="19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872-15E7-415B-A384-B0430218DD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Relationships, connection between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-to-many relations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. Student details and subjects t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5516640"/>
            <a:ext cx="50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54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udent studies many subjects and each subject has many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47640" y="3068640"/>
            <a:ext cx="129564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3068640"/>
            <a:ext cx="1295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95640" y="342864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3573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3573360"/>
            <a:ext cx="144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771640" y="335736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84292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842920" y="3573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189-3EF8-432D-91A2-8E7FC39B6F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lti-table real-life database such as a commercial system with tables fo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4219560" cy="39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078-F7BE-4ABA-93F5-140997B4CF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0:23:01Z</dcterms:created>
  <dc:creator>kel</dc:creator>
  <dc:description/>
  <dc:language>en-US</dc:language>
  <cp:lastModifiedBy>Kelvin Baird</cp:lastModifiedBy>
  <dcterms:modified xsi:type="dcterms:W3CDTF">2008-01-11T01:21:52Z</dcterms:modified>
  <cp:revision>31</cp:revision>
  <dc:subject/>
  <dc:title>Information Technology Applications 2007</dc:title>
</cp:coreProperties>
</file>